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A68B-5162-424D-8AA4-E3141CBDF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CF31-609B-4E82-B387-824C393500BA}"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C679-FBF0-4CD4-843F-BAD3087BD84A}"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0EE2-E20B-489D-A4E3-1AB3B34DC4B5}"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495A0-7F54-46F0-8DFF-74FD4E5D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E515C-8BD4-4170-ACA8-41AC8990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CB07C-AA69-44CD-8B8A-9DE2B8960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0B4BE-D1DE-490A-AADE-BFEB57F1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7CF94-72DC-4951-8236-D786BA3E1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5B54B-68B3-4C69-8BD3-60A03D221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8428-1D69-428C-B0C6-8D8AD5AFD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9D677-3840-4C0B-B419-96F0E48B9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B90BF-F468-4193-912C-46E62D024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E6358-F9B9-4CC0-B00C-7F7BBD4AA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AC1F1-D57D-4EEA-8CB8-60714E9EC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508E5-86DC-45BF-876D-DDE3FCCE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C22A3-9BD3-4974-97C2-CB3EBB1EF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FB8E-C775-447E-A213-EE7FF282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8B1B7-9395-47E0-BFC4-1481AA72C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4A622-4545-421F-BDA8-678F4DC3B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FF263-0EF1-4004-A50C-5552CF55E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2CBC-62F5-4D46-8A94-CFC29BFF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F1141-B36C-4D60-BF24-871273C65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137E-C412-4C06-9585-9E1F9351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22D57-75E1-4C57-BE9F-1494EAD8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C7B8-CF26-4D8F-BF4E-ABD3D9F7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C904-EB69-4EA7-94F8-6632EB23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ACA1-418F-4BFE-9907-62DF8C528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 name="Picture 4" descr="A:\minispir.GIF"/>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38EC-6638-4E23-A05B-783AB89E88A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47" name="Picture 4" descr="A:\minispir.GIF"/>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62CD-A3C5-4A9A-A86B-44BE78DA900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Picture 4" descr="C:\Program Files\Common Files\Microsoft Shared\Clipart\cagcat50\NA01062_.wmf"/>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anchor="t">
            <a:normAutofit fontScale="99000"/>
          </a:bodyPr>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Text Box 7"/>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Picture 5" descr="C:\Program Files\Microsoft Office\Clipart\standard\stddir2\BD08078_.WMF"/>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Picture 5" descr="C:\Program Files\Microsoft Office\Clipart\standard\stddir1\BD05103_.WMF"/>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Picture 4" descr="C:\Program Files\Microsoft Office\Clipart\standard\stddir1\BD05208_.WMF"/>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Picture 5" descr="C:\Program Files\Microsoft Office\Clipart\standard\stddir1\AN01707_.wmf"/>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Picture 6" descr="C:\Program Files\Microsoft Office\Clipart\standard\stddir4\SO00962_.wmf"/>
          <p:cNvPicPr/>
          <p:nvPr/>
        </p:nvPicPr>
        <p:blipFill>
          <a:blip r:embed="rId2"/>
          <a:stretch/>
        </p:blipFill>
        <p:spPr>
          <a:xfrm>
            <a:off x="5105520" y="1981080"/>
            <a:ext cx="1420560" cy="1616040"/>
          </a:xfrm>
          <a:prstGeom prst="rect">
            <a:avLst/>
          </a:prstGeom>
          <a:ln w="0">
            <a:noFill/>
          </a:ln>
        </p:spPr>
      </p:pic>
      <p:pic>
        <p:nvPicPr>
          <p:cNvPr id="247" name="Picture 7" descr="C:\Program Files\Microsoft Office\Clipart\standard\stddir1\AN02608_.wmf"/>
          <p:cNvPicPr/>
          <p:nvPr/>
        </p:nvPicPr>
        <p:blipFill>
          <a:blip r:embed="rId3"/>
          <a:stretch/>
        </p:blipFill>
        <p:spPr>
          <a:xfrm>
            <a:off x="4952880" y="3276720"/>
            <a:ext cx="1836720" cy="1349280"/>
          </a:xfrm>
          <a:prstGeom prst="rect">
            <a:avLst/>
          </a:prstGeom>
          <a:ln w="0">
            <a:noFill/>
          </a:ln>
        </p:spPr>
      </p:pic>
      <p:pic>
        <p:nvPicPr>
          <p:cNvPr id="248" name="Picture 8" descr="C:\Program Files\Microsoft Office\Clipart\Pub60Cor\SO00190_.wmf"/>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Text Box 5"/>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Text Box 6"/>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8" name="Text Box 7"/>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 ...</cp:lastModifiedBy>
  <dcterms:modified xsi:type="dcterms:W3CDTF">2011-07-08T02:03:23Z</dcterms:modified>
  <cp:revision>13</cp:revision>
  <dc:subject/>
  <dc:title>POETRY</dc:title>
</cp:coreProperties>
</file>